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5ED7-1C7F-48B9-84BC-2417D6DC9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FD21-9880-4FAB-9F7E-B05A2BB4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A30A-110B-4FFD-ABA5-1DF95855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BDDF-B931-4184-BFAF-CE9EBB427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4B41-AE5D-44F7-8624-B6A9BF4CF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7DEA-B151-414C-8469-78C344BD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7B84-E27F-4EEA-9AD9-454FE5FB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4E1C-377E-4490-9143-884F0808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851A-CF14-4728-BA16-2C4B810E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C4F9-C2A1-4E98-8908-066BFD5E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A29D-4C7F-45B0-B52B-30BFAEBC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3027-8673-4907-B61A-CA77D368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52E0-9E27-434B-A344-1B843DED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9172-C7CD-4682-B563-F3F20721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F0E9-4328-4F14-A4DF-7818A8CB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5743-F89B-40BA-9E2B-55450E3A5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5597-540E-4BBD-9072-4F1FC92EB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5058-4B58-426B-A3FA-D9D56081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70E9-5657-4130-AADB-F8363D9A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30EF-8557-482D-AD41-1D48F397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CBBC-F42D-44B8-AB7D-B3063339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7C6A-90D1-469C-A1BB-EE5D83D2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C431-4E0B-447F-BF45-818FDC73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65D0-9182-4EDD-A9F8-D06ED9AE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7E2C-0D1A-4AB2-8457-E4141C02B1A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427C-D4D1-455D-A00F-761A11DE800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conganat.org/seap/reuniones/almagro2000/casas/images/ni/ni06.jpg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Neonatal Dermatologic Find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utis Marmorat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80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ansient, netlike, reddish-blue mottl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used by variable vascular constriction and dil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ponse to chilling, resolves with warm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nign in neonates and usually abates by 6 months, but may persist longer in very fair skinned individua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persists past 6 months, may be a marker for  hypothyroidis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lesion benign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09" name="Picture 3" descr="http://www.cssd.us/images/medicalinfo/moles2.jpg"/>
          <p:cNvPicPr/>
          <p:nvPr/>
        </p:nvPicPr>
        <p:blipFill>
          <a:blip r:embed="rId1"/>
          <a:stretch/>
        </p:blipFill>
        <p:spPr>
          <a:xfrm>
            <a:off x="2286000" y="1600200"/>
            <a:ext cx="461808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genital Nevomelanocytic Nev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igmented macules or plaques with dense hair grow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iant CNN are associated with a 2-10% lifetime risk of melanoma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ighest risk of malignant change occurs in first 3-15 year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rly treatment with full-thickness excision followed by grafting if possible, otherwise close obser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mall to medium sized CNNs are also associated with a higher risk of malignant change than acquired moles, but incidence is unknow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ttp://healthprofessions.missouri.edu/cpd/RT/CRCE/images/NRP/6.jpg"/>
          <p:cNvPicPr/>
          <p:nvPr/>
        </p:nvPicPr>
        <p:blipFill>
          <a:blip r:embed="rId1"/>
          <a:stretch/>
        </p:blipFill>
        <p:spPr>
          <a:xfrm>
            <a:off x="1143000" y="1981080"/>
            <a:ext cx="6691320" cy="39751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’s wrong with this newborn’s hands and feet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crocyanos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ands and feet become variably and symmetrically blu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olves with warming of the ski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currence unusual after 1 month of 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is this and is this benign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18" name="Content Placeholder 3" descr="iloveyou_000.jpg"/>
          <p:cNvPicPr/>
          <p:nvPr/>
        </p:nvPicPr>
        <p:blipFill>
          <a:blip r:embed="rId1"/>
          <a:stretch/>
        </p:blipFill>
        <p:spPr>
          <a:xfrm>
            <a:off x="2286000" y="1447920"/>
            <a:ext cx="4432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emangioma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genital vascular malform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 in 10% of all newbo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sents in first few month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rked vascular overgrowth resulting in bright red discoloration and definite ele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apid growth for the first 6-12 months, then a plateau period, then slow involu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50% involute by age 5, 90% by age 9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fer to dermatology if lesion involves a vital structure or if there are multiple le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an you guess the name for this rash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22" name="Content Placeholder 3" descr="storkbite1.jpg"/>
          <p:cNvPicPr/>
          <p:nvPr/>
        </p:nvPicPr>
        <p:blipFill>
          <a:blip r:embed="rId1"/>
          <a:stretch/>
        </p:blipFill>
        <p:spPr>
          <a:xfrm>
            <a:off x="1981080" y="1905120"/>
            <a:ext cx="51912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almon Patch (Stork bite)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ascular malform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en in 60% of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ades in first year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located nape of neck, forehead and upper eyelid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syndrome can be related to this vascular malformation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26" name="Content Placeholder 3" descr="portwine.jpg"/>
          <p:cNvPicPr/>
          <p:nvPr/>
        </p:nvPicPr>
        <p:blipFill>
          <a:blip r:embed="rId1"/>
          <a:stretch/>
        </p:blipFill>
        <p:spPr>
          <a:xfrm>
            <a:off x="1905120" y="1600200"/>
            <a:ext cx="5257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mmon and  Usually Benign Dermatologic Find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ort Wine Stai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urplish-red vascular malformation present at bir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sions do not enlarge but remain flat and persis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en port wine stain involves ophthalmic branch of the fifth cranial (trigeminal) nerve, it can be associated be a constellation termed Sturge-Weber syndr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urge-Weber syndrome involves seizures, mental retardation, hemiplegia, and glaucom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http://www.aafp.org/afp/2008/0101/afp20080101p47-f4.jpg"/>
          <p:cNvPicPr/>
          <p:nvPr/>
        </p:nvPicPr>
        <p:blipFill>
          <a:blip r:embed="rId1"/>
          <a:stretch/>
        </p:blipFill>
        <p:spPr>
          <a:xfrm>
            <a:off x="2057400" y="2209680"/>
            <a:ext cx="4838760" cy="37292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an babies get pimples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onatal Ac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velops in up to 20% of newbo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ternal and endogenous androgens play a role in the pathogene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sions involute within 1-3 months, treatment usually unnecessa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’s on this baby’s nose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135" name="Group 10"/>
          <p:cNvGrpSpPr/>
          <p:nvPr/>
        </p:nvGrpSpPr>
        <p:grpSpPr>
          <a:xfrm>
            <a:off x="2286000" y="1714680"/>
            <a:ext cx="7286760" cy="360"/>
            <a:chOff x="2286000" y="1714680"/>
            <a:chExt cx="7286760" cy="360"/>
          </a:xfrm>
        </p:grpSpPr>
        <p:sp>
          <p:nvSpPr>
            <p:cNvPr id="136" name="Rectangle 9"/>
            <p:cNvSpPr/>
            <p:nvPr/>
          </p:nvSpPr>
          <p:spPr>
            <a:xfrm>
              <a:off x="2286000" y="1714680"/>
              <a:ext cx="7286760" cy="360"/>
            </a:xfrm>
            <a:prstGeom prst="rect">
              <a:avLst/>
            </a:prstGeom>
            <a:solidFill>
              <a:srgbClr val="00c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Group 8"/>
            <p:cNvGrpSpPr/>
            <p:nvPr/>
          </p:nvGrpSpPr>
          <p:grpSpPr>
            <a:xfrm>
              <a:off x="2286000" y="1714680"/>
              <a:ext cx="7286760" cy="360"/>
              <a:chOff x="2286000" y="1714680"/>
              <a:chExt cx="7286760" cy="360"/>
            </a:xfrm>
          </p:grpSpPr>
          <p:sp>
            <p:nvSpPr>
              <p:cNvPr id="138" name="Rectangle 3"/>
              <p:cNvSpPr/>
              <p:nvPr/>
            </p:nvSpPr>
            <p:spPr>
              <a:xfrm>
                <a:off x="2286000" y="1714680"/>
                <a:ext cx="360" cy="360"/>
              </a:xfrm>
              <a:prstGeom prst="rect">
                <a:avLst/>
              </a:prstGeom>
              <a:solidFill>
                <a:srgbClr val="00c3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Group 7"/>
              <p:cNvGrpSpPr/>
              <p:nvPr/>
            </p:nvGrpSpPr>
            <p:grpSpPr>
              <a:xfrm>
                <a:off x="2286000" y="1714680"/>
                <a:ext cx="7286760" cy="360"/>
                <a:chOff x="2286000" y="1714680"/>
                <a:chExt cx="7286760" cy="360"/>
              </a:xfrm>
            </p:grpSpPr>
            <p:sp>
              <p:nvSpPr>
                <p:cNvPr id="140" name="Rectangle 6"/>
                <p:cNvSpPr/>
                <p:nvPr/>
              </p:nvSpPr>
              <p:spPr>
                <a:xfrm>
                  <a:off x="2286000" y="1714680"/>
                  <a:ext cx="7286760" cy="360"/>
                </a:xfrm>
                <a:prstGeom prst="rect">
                  <a:avLst/>
                </a:prstGeom>
                <a:solidFill>
                  <a:srgbClr val="00c3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Rectangle 4"/>
                <p:cNvSpPr/>
                <p:nvPr/>
              </p:nvSpPr>
              <p:spPr>
                <a:xfrm>
                  <a:off x="2286000" y="1714680"/>
                  <a:ext cx="7286760" cy="360"/>
                </a:xfrm>
                <a:prstGeom prst="rect">
                  <a:avLst/>
                </a:prstGeom>
                <a:solidFill>
                  <a:srgbClr val="00c3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42" name="Picture 5" descr="This is an infant with milia."/>
          <p:cNvPicPr/>
          <p:nvPr/>
        </p:nvPicPr>
        <p:blipFill>
          <a:blip r:embed="rId1"/>
          <a:stretch/>
        </p:blipFill>
        <p:spPr>
          <a:xfrm>
            <a:off x="1828800" y="1752480"/>
            <a:ext cx="58672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ebaceous Gland Hyperplas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Yellow papules over the nose and cheek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ult from maternal or endogenous androgenic stimulation of sebaceous gland grow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olves within 4-6 month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the same as the previous rash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47" name="Picture 4" descr="http://s3.hubimg.com/u/1576434_f260.jpg"/>
          <p:cNvPicPr/>
          <p:nvPr/>
        </p:nvPicPr>
        <p:blipFill>
          <a:blip r:embed="rId1"/>
          <a:stretch/>
        </p:blipFill>
        <p:spPr>
          <a:xfrm>
            <a:off x="2057400" y="1523880"/>
            <a:ext cx="51814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il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early yellow papules usually on the f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 in 50% of newbo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resolve during the 1st month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re these rashes the same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51" name="Picture 4" descr="http://www.adhb.govt.nz/newborn/TeachingResources/Dermatology/Miliaria/MiliariaCrystallina.jpg"/>
          <p:cNvPicPr/>
          <p:nvPr/>
        </p:nvPicPr>
        <p:blipFill>
          <a:blip r:embed="rId1"/>
          <a:stretch/>
        </p:blipFill>
        <p:spPr>
          <a:xfrm>
            <a:off x="228600" y="1828800"/>
            <a:ext cx="4195800" cy="4343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http://www.skinsight.com/images/dx/webInfant/miliariaRubra_31837_lg.jpg"/>
          <p:cNvPicPr/>
          <p:nvPr/>
        </p:nvPicPr>
        <p:blipFill>
          <a:blip r:embed="rId2"/>
          <a:stretch/>
        </p:blipFill>
        <p:spPr>
          <a:xfrm>
            <a:off x="4724280" y="1828800"/>
            <a:ext cx="4191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iliar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ults from obstruction to the flow of sweat and rupture of the eccrine sweat gla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iliaria crystallina - superficial 1-2mm vesicles on non-inflamed ski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iliaria rubra (prickly heat) - small red papules and pustu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 in response to thermal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erupt in crops in the intertriginous areas, scalp, face, and trun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polydactyly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56" name="Picture 4" descr="http://www.skinsight.com/images/dx/webInfant/supernumeraryDigit_35129_lg.jpg"/>
          <p:cNvPicPr/>
          <p:nvPr/>
        </p:nvPicPr>
        <p:blipFill>
          <a:blip r:embed="rId1"/>
          <a:stretch/>
        </p:blipFill>
        <p:spPr>
          <a:xfrm>
            <a:off x="2057400" y="1828800"/>
            <a:ext cx="555624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24 hour old female with this rash, what is it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93" name="Content Placeholder 3" descr="Erythema_Neonatarum_1_031011.jpg"/>
          <p:cNvPicPr/>
          <p:nvPr/>
        </p:nvPicPr>
        <p:blipFill>
          <a:blip r:embed="rId1"/>
          <a:stretch/>
        </p:blipFill>
        <p:spPr>
          <a:xfrm>
            <a:off x="1066680" y="1447920"/>
            <a:ext cx="7239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upernumerary Digi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commonly occur as rudimentary structures at the base of the ulnar side of the 5th fing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famili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ymptomatic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n usually be tied off as long as no bone is palpat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are and Abnormal Dermatologic Find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61" name="Picture 4" descr="http://www.jle.com/en/revues/medecine/ejd/e-docs/00/04/12/B9/texte_alt_jleejd00140_gr1.jpg"/>
          <p:cNvPicPr/>
          <p:nvPr/>
        </p:nvPicPr>
        <p:blipFill>
          <a:blip r:embed="rId1"/>
          <a:stretch/>
        </p:blipFill>
        <p:spPr>
          <a:xfrm>
            <a:off x="762120" y="1600200"/>
            <a:ext cx="777240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llodian Bab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orn encased in thick cellophane-like membran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go on to develop ichthyosis (a group of scaling disorder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arrier function is compromised by cracking and fissuring -&gt; increased insensible water loss, heat loss, and risk of infe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plications are minimized by placing baby in high humidity, neutrally thermal environ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squamation usually complete by 2-3 week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65" name="Picture 4" descr="http://img.medscape.com/pi/emed/ckb/pediatrics_general/1331341-1331364-909549-909619.jpg"/>
          <p:cNvPicPr/>
          <p:nvPr/>
        </p:nvPicPr>
        <p:blipFill>
          <a:blip r:embed="rId1"/>
          <a:stretch/>
        </p:blipFill>
        <p:spPr>
          <a:xfrm>
            <a:off x="1371600" y="838080"/>
            <a:ext cx="632448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pidermolysis Bullos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roup of inherited mechanobullous disord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listers form after mild friction or traum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ree types: epidermolytic EB, junctional EB, dermolytic EB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kin biopsy distinguishes types and determines progno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natal diagnosis is now possible for a number of variants for which gene markers are availab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ment is symptomatic and supportiv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69" name="Picture 4" descr="http://download.imaging.consult.com/ic/images/S1933033208902378/gr25a-midi.jpg"/>
          <p:cNvPicPr/>
          <p:nvPr/>
        </p:nvPicPr>
        <p:blipFill>
          <a:blip r:embed="rId1"/>
          <a:stretch/>
        </p:blipFill>
        <p:spPr>
          <a:xfrm>
            <a:off x="838080" y="990720"/>
            <a:ext cx="2857680" cy="4572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http://www.conganat.org/seap/reuniones/almagro2000/casas/images/ni/ni06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38480" y="1905120"/>
            <a:ext cx="468648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ncontinentia Pigment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eurocutaneous syndr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X-linked dominant, lethal in ma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arts out with patches of erythema and blisters that follow the lines of Blaschko (embryonic cleavage planes) -&gt; warty plaques by several weeks to months -&gt; increasing pigmentation at 2-6 months that look like marble cake swirls -&gt; fade to hypopigmented patches in late childhoo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sociated defects in the CNS, eye, dentition, heart, skeletal syste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74" name="Picture 4" descr="http://menshealth.about.com/library/graphics/PHIL_2246_lores.jpg"/>
          <p:cNvPicPr/>
          <p:nvPr/>
        </p:nvPicPr>
        <p:blipFill>
          <a:blip r:embed="rId1"/>
          <a:stretch/>
        </p:blipFill>
        <p:spPr>
          <a:xfrm>
            <a:off x="5562720" y="1905120"/>
            <a:ext cx="2714400" cy="4076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content01.jpg"/>
          <p:cNvPicPr/>
          <p:nvPr/>
        </p:nvPicPr>
        <p:blipFill>
          <a:blip r:embed="rId2"/>
          <a:stretch/>
        </p:blipFill>
        <p:spPr>
          <a:xfrm>
            <a:off x="380880" y="1905120"/>
            <a:ext cx="5034240" cy="41576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2206800" y="14749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genital Syphil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ucocutaneous lesions usually appear between 2-6 weeks of 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common finding = papulosquamous eruption beginning in the palms and soles and spreading over extremities, face and trun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agnosis confirmed with serological studies of the serum and CS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rly diagnosis and treatment with high dose PCN prevents late complica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ewborns with disease can also be born premature, have poor growth, and develop hepatosplenomegaly and snuff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rythema Toxicum Neonatorum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entral papule or pustule surrounded by area of erythem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nign, self-limiting, asymptomatic disorder of unknown etiolog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s in up to 50% of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sents at 24-48 hours of life, fades within 5-7 days, but recurrences may occur for several week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mear of pustule reveals eosinophi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80" name="Picture 4" descr="http://pathmicro.med.sc.edu/mhunt/rubel2.jpg"/>
          <p:cNvPicPr/>
          <p:nvPr/>
        </p:nvPicPr>
        <p:blipFill>
          <a:blip r:embed="rId1"/>
          <a:stretch/>
        </p:blipFill>
        <p:spPr>
          <a:xfrm>
            <a:off x="2085840" y="1246320"/>
            <a:ext cx="497232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genital Rubell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lueberry muffin le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en in severe disseminated disease with jaundice, pneumonitis, meningitis, bony abnormalities, thrombocytopeni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genital rubella associated with cataracts, microphthalmia, glaucoma, congenital heart disea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lueberry muffin lesions can also be seen in congenital CMV and toxoplasmo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n confirm diagnosis with serologic test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ment: isolation and supportive ca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84" name="Picture 4" descr="http://www.pediatricsupersite.com/images/content/idc/200809/wyd1.jpg"/>
          <p:cNvPicPr/>
          <p:nvPr/>
        </p:nvPicPr>
        <p:blipFill>
          <a:blip r:embed="rId1"/>
          <a:stretch/>
        </p:blipFill>
        <p:spPr>
          <a:xfrm>
            <a:off x="1371600" y="1752480"/>
            <a:ext cx="655308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erpes Simplex Infect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f infected babies, 70% develop the skin rash and 90% of these children go on to develop systematic disea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ustered red papules and vesicles, then become pustular, denuded, crusted, and hemorrhagic over the following 2-3 day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agnose by DFA or PCR of the le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 with acyclovir as soon as infection is suspected to prevent disseminated disease and morbidity/mortali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88" name="Picture 4" descr="http://www.pathguy.com/sol/14137.jpg"/>
          <p:cNvPicPr/>
          <p:nvPr/>
        </p:nvPicPr>
        <p:blipFill>
          <a:blip r:embed="rId1"/>
          <a:stretch/>
        </p:blipFill>
        <p:spPr>
          <a:xfrm>
            <a:off x="1905120" y="1600200"/>
            <a:ext cx="497520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onatal Varicell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rly exposure in utero during 1st trimester can rarely lead to neonatal varicella syndrome: linear scars, limb anomalies, ocular defects, and CNS involv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ate exposure in 3rd trimester increases the risk of baby acquiring the disease during the neonatal period (the closer to delivery, the higher the risk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esicles usually develop over 1st 3-10 day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ssemination can lead to pneumonitis, encephalitis, purpura with hemorrhage, hypotension, and dea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newborn at risk, should consider Varicella-zoster immune globulin or IVI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art acyclovir early if lesions are suspicious for varicell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firm diagnosis with DFA or PCR of le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92" name="Picture 4" descr="http://genfir2.org/ibis-birthdefectsorg/start/images/aplascut.jpg"/>
          <p:cNvPicPr/>
          <p:nvPr/>
        </p:nvPicPr>
        <p:blipFill>
          <a:blip r:embed="rId1"/>
          <a:stretch/>
        </p:blipFill>
        <p:spPr>
          <a:xfrm>
            <a:off x="1295280" y="1752480"/>
            <a:ext cx="638172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plasia Cutis Congenit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ften inherited as AD trai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bsence/failure of formation of a localized area of scalp or skin, usually single lesion located over vertex of the scal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ment is supportive until lesion is heal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aves an atrophic, hairless scar that can be excised later in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ss commonly, the trunk and extremities are involved and lesions may be associated with limb defects, epidermolysis bullosa, and chromosomal abnormaliti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96" name="Picture 4" descr="http://www.sahha.gov.mt/showdoc.aspx?id=487&amp;filesource=4&amp;file=fig07.jpg"/>
          <p:cNvPicPr/>
          <p:nvPr/>
        </p:nvPicPr>
        <p:blipFill>
          <a:blip r:embed="rId1"/>
          <a:stretch/>
        </p:blipFill>
        <p:spPr>
          <a:xfrm>
            <a:off x="954000" y="857160"/>
            <a:ext cx="7236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onatal Lupus Erythematosu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nular erythematous plaques with a central sca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ansplacentally aquired ssA (Ro) and ssB (La) Ab is thought to play role in pathogene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y be triggered or exacerbated by sun exposu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sociated with heart block, hepatosplenomegaly, anemia, leukopenia, thrombocytopenia, and/or lymphadenopath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cept for cardiac involvement, usually resolves in 6-12 month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y need topical steroids, rarely requires systemic steroid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is this rash noted on this baby immediately after birth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97" name="Content Placeholder 3" descr="Pustular melanosis.bmp"/>
          <p:cNvPicPr/>
          <p:nvPr/>
        </p:nvPicPr>
        <p:blipFill>
          <a:blip r:embed="rId1"/>
          <a:stretch/>
        </p:blipFill>
        <p:spPr>
          <a:xfrm>
            <a:off x="1676520" y="1905120"/>
            <a:ext cx="60958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ransient Neonatal Pustular Melanos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lf-limiting dermatosis of unknown etiolog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s more frequently in black ma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presents at bir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ustule on non-erythematous base, crusts over several days, which desquamates and leaves a hyperpigmented macule with collarette of fine sca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yperpigmentation fades in 3 weeks to 3 month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mear of pustule reveals neutrophi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bruising from birth trauma or something else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01" name="Content Placeholder 3" descr="mongolian_spot_1_080714.jpg"/>
          <p:cNvPicPr/>
          <p:nvPr/>
        </p:nvPicPr>
        <p:blipFill>
          <a:blip r:embed="rId1"/>
          <a:stretch/>
        </p:blipFill>
        <p:spPr>
          <a:xfrm>
            <a:off x="1600200" y="1447920"/>
            <a:ext cx="5762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ongolian Spo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lat, slate-gray to bluish-black, poorly circumscribed macules/patch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commonly located over the lumbosacral area and buttock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mon in black, asian, and hispanic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fade by 7 years of 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Does this mottling mean this newborn is ill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05" name="Content Placeholder 3" descr="cutis_marmorata_3_060523.jpg"/>
          <p:cNvPicPr/>
          <p:nvPr/>
        </p:nvPicPr>
        <p:blipFill>
          <a:blip r:embed="rId1"/>
          <a:stretch/>
        </p:blipFill>
        <p:spPr>
          <a:xfrm>
            <a:off x="762120" y="2438280"/>
            <a:ext cx="777240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21:44:54Z</dcterms:created>
  <dc:creator>HCMARTINEZ</dc:creator>
  <dc:description/>
  <dc:language>en-US</dc:language>
  <cp:lastModifiedBy>Health Services Department</cp:lastModifiedBy>
  <dcterms:modified xsi:type="dcterms:W3CDTF">2010-05-25T00:00:28Z</dcterms:modified>
  <cp:revision>26</cp:revision>
  <dc:subject/>
  <dc:title>Normal Dermatologic Findings</dc:title>
</cp:coreProperties>
</file>